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14C-5ABA-4CC5-BAFC-4E3A3CF3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F02-FAE0-4A2A-ACCA-E5245E52E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D3E-2F44-427A-BE90-C22FC8D4DA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DD36-B518-4E3A-9FB6-D589964773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ED9A-7D9F-4894-962D-D2553DBFF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D0A-CB41-4C2D-BEE5-481ED8E692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C1A-001E-4F21-95D2-ED461BBDD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9951-64DA-48F0-93AA-C44310B5AC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F246-BAF6-4E65-B4FB-0D616E9A6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CD0-CC5E-4DB7-BF2C-A00CB933B8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69E6-AC01-45CB-B7AA-D6BBB98E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AA29-92AD-4668-B33E-887B02B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F292-E992-44C8-A2FD-7C4111B0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4618-715F-4E2E-84C3-C104DB09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29F0-AA7B-4480-B50A-B64B98B0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6A27-A43F-4234-B46C-B547B13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CB86-9F76-4FE9-B451-C29514C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6A9A-04DA-4D8B-A8BF-1BFC6E3E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A3E-1672-4AE0-9F7F-94F7E4C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9E8-130E-4638-8C40-70419757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969C-046A-4A28-BEEB-036984F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0281-D94E-41B3-8C23-519B784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8E7-1D8C-4A06-9DD2-A8AA05B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3C7-971B-4B97-BACF-912C5EAE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D1C9-452B-4901-86E3-74C70E7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06F6-4601-468E-A266-C5D8446D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793-8228-4A8C-B43D-C80527FA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7AB6-F28A-495F-99BD-D58E1EAA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9DAB-A71A-41D0-8E9D-FD4E324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647F-6573-4D22-9792-DF43B31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FA5C-A83F-47C2-915B-0EEBF8E9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5A50-4D15-45A9-B49A-2A95F50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3146-5EC6-4416-9216-07662E4C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8364-D409-412D-9DDF-7B2E565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AB28-6BBA-43B8-B040-02C0A393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701-5528-4B53-823E-3B43AFE87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Do Now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pply a narrative theory to the posters you have been giv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railer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ook at the following film trailers, how do they reveal important details about narrative without giving away the whole plo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ven though you might not have seen the film, do most trailers use linear narratives or non linear narrativ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TASK-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Fill in the sheet in your  book whilst watc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Your trai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ake notes on the narrative of your trail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sider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pl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expos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Linear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he narrative is told- filmmaking methods, cinematograph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se of s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di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as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atch the opening sequence of </a:t>
            </a:r>
            <a:r>
              <a:rPr b="1" i="1" lang="en-GB" sz="2800" spc="-1" strike="noStrike">
                <a:solidFill>
                  <a:srgbClr val="ffffff"/>
                </a:solidFill>
                <a:latin typeface="Garamond"/>
              </a:rPr>
              <a:t>‘Oceans 11’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, Using your worksheet, note down the elements of the narrative structure in how we are introduced to the film and how the story is being to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is the diegesis and exposition set u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s it a linear narrativ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oes the editing use time relationship to condense periods of time in order to tell the story bette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Moving Image Narrativ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is Narrativ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arrative is the process of story constr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t is also how content is selected and arranged in order to give meaning to the audi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rite 5 things you did over half term (apart from sleep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How do we know which order you did them 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’s the story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lot: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term plot is used to describe everything visibly and audibly present in the film narrativ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plot can also feature ‘non –diegetic’ techniques such as music, voiceover and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rite down the plot of your film in 5 poi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x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9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exposi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is another word for establishing. It s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up the film world, characters, setting, era and them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he exposition often sets off the chain of events to get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narrative motivation go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he exposition of a film does not necessarily have to st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t the beginning of a narrativ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s we have already mentioned film plots can often be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 the middle and flashback or for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ask: Watch this trailer? What is the expositi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What is the exposition of your trailer and how is tol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inear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nearity/Chronology: simply the ordering or sequencing of events. This is often referred to as the narrative structure. Non– linear narratives are not told in ord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other editing techniques do filmmakers use to create non-linear narrativ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ut of order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hat do linear and non-linear me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st if not all trailers are told in a non linear narrative structure. Wh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kind of editing method do trailers u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ontage editing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s used in trailers. Trailers are a ‘jigsaw puzzle’ that the audience piece together to make a semblance of meaning. The film itself maybe linear but trailers never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ime and cause and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is refers to the way films are moved forward by scene or event. This is otherwise known as motiv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For example: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Cause-A murder is committed. Effect- the police investig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 story takes bits of information and puts them together in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(in chronological or non-chronological order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Narrative- Audience Manipulation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y do filmmakers use narrative in inventive way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tease audie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mislead them deliberate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hold in suspe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be released from suspe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o inform us of a character's pa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o that we can understand a character's motiv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1:28:01Z</dcterms:created>
  <dc:creator> </dc:creator>
  <dc:description/>
  <dc:language>en-US</dc:language>
  <cp:lastModifiedBy>Permaul, Pravin</cp:lastModifiedBy>
  <dcterms:modified xsi:type="dcterms:W3CDTF">2013-04-19T11:31:05Z</dcterms:modified>
  <cp:revision>32</cp:revision>
  <dc:subject/>
  <dc:title>Narrative</dc:title>
</cp:coreProperties>
</file>